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ADD65-B4D5-4CDE-BB97-827AA2F1F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B714B-ED7F-4AF9-A60B-B3B0246E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92445-0F9A-4D96-991D-6D38B953C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8D1BE-4F5A-4E56-B932-002CFF7E8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8162-D71C-4C51-94C2-B0AA991F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387D7-3BC8-491C-A65E-8795182B5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8C66E-0D46-436B-8672-437AC4C46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62BA0-5ACA-4E3D-ACFB-0FA05ACE6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805B0-897E-43B6-8E7B-2EC1F8CC2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2B0B-A99D-46A3-AAF9-3DA0B55F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C3ECC-A236-446E-88AC-38999664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972B-3D5C-40AB-9074-65DFC0E28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B443-031C-426E-B552-E4017ECEB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idealist.org/en/ivrc/index.html" TargetMode="External"/><Relationship Id="rId2" Type="http://schemas.openxmlformats.org/officeDocument/2006/relationships/hyperlink" Target="http://www.onlinevolunteering.org/" TargetMode="External"/><Relationship Id="rId3" Type="http://schemas.openxmlformats.org/officeDocument/2006/relationships/hyperlink" Target="http://europa.eu/youth/volunteering_-_exchanges/index_eu_en.html" TargetMode="External"/><Relationship Id="rId4" Type="http://schemas.openxmlformats.org/officeDocument/2006/relationships/hyperlink" Target="http://www.unv.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1" name=""/>
          <p:cNvSpPr txBox="1"/>
          <p:nvPr/>
        </p:nvSpPr>
        <p:spPr>
          <a:xfrm>
            <a:off x="0" y="533520"/>
            <a:ext cx="67816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OLUNTARI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txBox="1"/>
          <p:nvPr/>
        </p:nvSpPr>
        <p:spPr>
          <a:xfrm>
            <a:off x="3200400" y="4876920"/>
            <a:ext cx="525780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Proiect educational</a:t>
            </a:r>
            <a:endParaRPr b="0" lang="en-US" sz="1800" spc="1" strike="noStrike">
              <a:ln w="9360">
                <a:solidFill>
                  <a:srgbClr val="ff99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Adelina Tache, Raluca Tomiuc, Dumitru Anghel</a:t>
            </a:r>
            <a:endParaRPr b="0" lang="en-US" sz="1800" spc="1" strike="noStrike">
              <a:ln w="9360">
                <a:solidFill>
                  <a:srgbClr val="ff9900"/>
                </a:solidFill>
                <a:miter/>
              </a:ln>
              <a:solidFill>
                <a:srgbClr val="ff6600"/>
              </a:solidFill>
              <a:latin typeface="Arial Black"/>
              <a:ea typeface="Arial Black"/>
            </a:endParaRPr>
          </a:p>
        </p:txBody>
      </p:sp>
      <p:pic>
        <p:nvPicPr>
          <p:cNvPr id="43" name="" descr=""/>
          <p:cNvPicPr/>
          <p:nvPr/>
        </p:nvPicPr>
        <p:blipFill>
          <a:blip r:embed="rId1"/>
          <a:stretch/>
        </p:blipFill>
        <p:spPr>
          <a:xfrm>
            <a:off x="3124080" y="1905120"/>
            <a:ext cx="4800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pot face voluntarii</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siliere si informare pe diferite t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tarea unor elevi cu probl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mpanii pe teme legate de profilul organizatiei (drepturile copilului, prevenire SIDA, etc.);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atirea si distribuirea unor pachete pentru beneficiarii organizatiei (de exemplu hrana, imbracami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838080"/>
            <a:ext cx="8229600" cy="5639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ienizarea unor parcuri sau zone de joaca pentru cop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nii de promovare a reciclarii diferitelor materia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hid in gradina botanica pentru elev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e despre importanta protejarii mediului in scoli.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gere de semnaturi pentru diferite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movarea principiilor democratice in comunit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imiterea de scrisori in sprijinul unor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nalarea oricaror abuzuri sau fraud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id in muzeu;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rea de publicatii specif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mpanii de promovare a institutiei si serviciilor in cadrul comunitati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pe teme legate de specificul institu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riat, fotocopiere, indosariere,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ate de relatii cu publicul in cadrul recep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rea de evenimen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at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anii de promovare a sanatatii (educatie sexuala, alimentatie sanatoasa, prevenirea fumatului sau a utilizarii drogurilor,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ii pentru pacientii din spita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area de emisiuni radio si concursuri pe teme legate de sanat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abilitatile voluntarilor</a:t>
            </a:r>
            <a:endParaRPr b="0" lang="en-US" sz="4400" spc="-1" strike="noStrike">
              <a:solidFill>
                <a:srgbClr val="000000"/>
              </a:solidFill>
              <a:latin typeface="Arial"/>
            </a:endParaRPr>
          </a:p>
        </p:txBody>
      </p:sp>
      <p:sp>
        <p:nvSpPr>
          <p:cNvPr id="6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CONVIN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erceteaza-ti sentimentele si asigura-te ca vrei sa ajuti alti oamen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SIGUR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i oferi serviciile pâna nu esti convins de valoarea a ceea ce fac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LOIAL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ra-ti sugestiile, dar accepta regulile; nu critica ceea ce nu intelegi (s-ar putea sa existe un motiv intemei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E CE GÂNDESTI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eaba ceea ce nu intelegi; nu-ti pastra pentru tine semnele de intrebare si frustrarile pâna când acestea te indeparteaza de organizatie sau creeaza probleme organizati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ISPUS SA INVE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truirea este esentiala pentru a-ti putea desfasura activitatea in bune conditi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ATA TOT CE PO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la tot ceea ce poti despre organizatie si despre munca 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A SUPERVIZAR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i fi mai util si iti vei indeplini sarcinile mai eficient daca vorbesti cu cineva despre activitatea ta si daca accepti indruma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E INCREDE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 ceea ce te-ai angajat sa faci; nu promite ceea ce nu esti sigur ca poti sa fa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UN BUN COECHIPI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seste-ti un loc in echipa; munca e mult mai placuta si mai plina de satisfactii atunci când nu esti singu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rea problemei</a:t>
            </a:r>
            <a:endParaRPr b="0" lang="en-US" sz="4400" spc="-1" strike="noStrike">
              <a:solidFill>
                <a:srgbClr val="000000"/>
              </a:solidFill>
              <a:latin typeface="Arial"/>
            </a:endParaRPr>
          </a:p>
        </p:txBody>
      </p:sp>
      <p:sp>
        <p:nvSpPr>
          <p:cNvPr id="66" name="PlaceHolder 2"/>
          <p:cNvSpPr>
            <a:spLocks noGrp="1"/>
          </p:cNvSpPr>
          <p:nvPr>
            <p:ph/>
          </p:nvPr>
        </p:nvSpPr>
        <p:spPr>
          <a:xfrm>
            <a:off x="457200" y="2819520"/>
            <a:ext cx="822960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t>
            </a:r>
            <a:r>
              <a:rPr b="0" lang="ro-RO" sz="3200" spc="-1" strike="noStrike">
                <a:solidFill>
                  <a:srgbClr val="000000"/>
                </a:solidFill>
                <a:latin typeface="Arial"/>
              </a:rPr>
              <a:t>ădiniţa din cartierul nostru are un joc de joacă urâ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ştiu?</a:t>
            </a:r>
            <a:endParaRPr b="0" lang="en-US" sz="4400" spc="-1" strike="noStrike">
              <a:solidFill>
                <a:srgbClr val="000000"/>
              </a:solidFill>
              <a:latin typeface="Arial"/>
            </a:endParaRPr>
          </a:p>
        </p:txBody>
      </p:sp>
      <p:sp>
        <p:nvSpPr>
          <p:cNvPr id="68" name="PlaceHolder 2"/>
          <p:cNvSpPr>
            <a:spLocks noGrp="1"/>
          </p:cNvSpPr>
          <p:nvPr>
            <p:ph/>
          </p:nvPr>
        </p:nvSpPr>
        <p:spPr>
          <a:xfrm>
            <a:off x="457200" y="243792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este neatract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poate fi pericul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ste nevoie de realibili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unt dispus să mă imp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nu ştiu?</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şi-ar dori copiii să arate locul de joac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fac rost de fond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ine mă poate susţine (persoane resurs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Necesarul de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impul necasar reabilităr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um procedez?</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iţiez discuţii cu copiii şi educatoar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esc necesarul de fonduri şi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Găsesc persoane care să mă ajute la luc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rec la acţiune (sudăm, construim, vopsim, plantăm, realizăm jucăr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augură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ne reuni este un ince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ramane impreuna este un prog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lucra impreuna inseamna un suc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Proverb ar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neori m</a:t>
            </a:r>
            <a:r>
              <a:rPr b="0" i="1" lang="ro-RO" sz="4000" spc="-1" strike="noStrike">
                <a:solidFill>
                  <a:srgbClr val="000000"/>
                </a:solidFill>
                <a:latin typeface="Arial"/>
              </a:rPr>
              <a:t>ă întrebam de ce nu face cineva ceva. Apoi am înţeles că cineva sunt eu.</a:t>
            </a:r>
            <a:endParaRPr b="0" lang="en-US" sz="4000" spc="-1" strike="noStrike">
              <a:solidFill>
                <a:srgbClr val="000000"/>
              </a:solidFill>
              <a:latin typeface="Arial"/>
            </a:endParaRPr>
          </a:p>
        </p:txBody>
      </p:sp>
      <p:sp>
        <p:nvSpPr>
          <p:cNvPr id="45" name="PlaceHolder 2"/>
          <p:cNvSpPr>
            <a:spLocks noGrp="1"/>
          </p:cNvSpPr>
          <p:nvPr>
            <p:ph/>
          </p:nvPr>
        </p:nvSpPr>
        <p:spPr>
          <a:xfrm>
            <a:off x="533520" y="3429000"/>
            <a:ext cx="82296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ACĂ NU EU, ATUNCI C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ibliografie:</a:t>
            </a:r>
            <a:endParaRPr b="0" lang="en-US" sz="4400" spc="-1" strike="noStrike">
              <a:solidFill>
                <a:srgbClr val="000000"/>
              </a:solidFill>
              <a:latin typeface="Arial"/>
            </a:endParaRPr>
          </a:p>
        </p:txBody>
      </p:sp>
      <p:sp>
        <p:nvSpPr>
          <p:cNvPr id="75" name="PlaceHolder 2"/>
          <p:cNvSpPr>
            <a:spLocks noGrp="1"/>
          </p:cNvSpPr>
          <p:nvPr>
            <p:ph/>
          </p:nvPr>
        </p:nvSpPr>
        <p:spPr>
          <a:xfrm>
            <a:off x="533520" y="121896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9999"/>
                </a:solidFill>
                <a:uFillTx/>
                <a:latin typeface="Arial"/>
                <a:hlinkClick r:id="rId1"/>
              </a:rPr>
              <a:t>http://www.idealist.org/en/ivrc/index.html</a:t>
            </a:r>
            <a:br>
              <a:rPr sz="2800"/>
            </a:br>
            <a:r>
              <a:rPr b="0" lang="ro-RO" sz="2800" spc="-1" strike="noStrike" u="sng">
                <a:solidFill>
                  <a:srgbClr val="009999"/>
                </a:solidFill>
                <a:uFillTx/>
                <a:latin typeface="Arial"/>
                <a:hlinkClick r:id="rId2"/>
              </a:rPr>
              <a:t>http://www.onlinevolunteering.org</a:t>
            </a:r>
            <a:r>
              <a:rPr b="0" lang="ro-RO" sz="2800" spc="-1" strike="noStrike" u="sng">
                <a:solidFill>
                  <a:srgbClr val="009999"/>
                </a:solidFill>
                <a:uFillTx/>
                <a:latin typeface="Arial"/>
                <a:hlinkClick r:id="rId3"/>
              </a:rPr>
              <a:t> http://europa.eu/youth/volunteering_-_exchanges/index_eu_en.html</a:t>
            </a:r>
            <a:r>
              <a:rPr b="0" lang="ro-RO" sz="2800" spc="-1" strike="noStrike" u="sng">
                <a:solidFill>
                  <a:srgbClr val="009999"/>
                </a:solidFill>
                <a:uFillTx/>
                <a:latin typeface="Arial"/>
                <a:hlinkClick r:id="rId4"/>
              </a:rPr>
              <a:t> http://www.unv.org</a:t>
            </a:r>
            <a:br>
              <a:rPr sz="2800"/>
            </a:br>
            <a:r>
              <a:rPr b="0" lang="ro-RO" sz="2800" spc="-1" strike="noStrike">
                <a:solidFill>
                  <a:srgbClr val="000000"/>
                </a:solidFill>
                <a:latin typeface="Arial"/>
              </a:rPr>
              <a:t>http://www.volunteerabroad.com/search.cfm </a:t>
            </a:r>
            <a:br>
              <a:rPr sz="2800"/>
            </a:br>
            <a:r>
              <a:rPr b="0" lang="ro-RO" sz="2800" spc="-1" strike="noStrike">
                <a:solidFill>
                  <a:srgbClr val="000000"/>
                </a:solidFill>
                <a:latin typeface="Arial"/>
              </a:rPr>
              <a:t>http://www.avso.org</a:t>
            </a:r>
            <a:br>
              <a:rPr sz="2800"/>
            </a:br>
            <a:r>
              <a:rPr b="0" lang="ro-RO" sz="2800" spc="-1" strike="noStrike">
                <a:solidFill>
                  <a:srgbClr val="000000"/>
                </a:solidFill>
                <a:latin typeface="Arial"/>
              </a:rPr>
              <a:t>http://www.takingitglobal.org/opps/orgdir.html </a:t>
            </a:r>
            <a:br>
              <a:rPr sz="2800"/>
            </a:br>
            <a:r>
              <a:rPr b="0" lang="ro-RO" sz="2800" spc="-1" strike="noStrike">
                <a:solidFill>
                  <a:srgbClr val="000000"/>
                </a:solidFill>
                <a:latin typeface="Arial"/>
              </a:rPr>
              <a:t>http://www.volunteerinternational.org </a:t>
            </a:r>
            <a:br>
              <a:rPr sz="2800"/>
            </a:br>
            <a:r>
              <a:rPr b="0" lang="ro-RO" sz="2800" spc="-1" strike="noStrike">
                <a:solidFill>
                  <a:srgbClr val="000000"/>
                </a:solidFill>
                <a:latin typeface="Arial"/>
              </a:rPr>
              <a:t>http://www.globalvolunteers.org/ </a:t>
            </a:r>
            <a:br>
              <a:rPr sz="2800"/>
            </a:br>
            <a:r>
              <a:rPr b="0" lang="ro-RO" sz="2800" spc="-1" strike="noStrike">
                <a:solidFill>
                  <a:srgbClr val="000000"/>
                </a:solidFill>
                <a:latin typeface="Arial"/>
              </a:rPr>
              <a:t>http://www.worldvolunteerweb.org/take-action.html</a:t>
            </a:r>
            <a:br>
              <a:rPr sz="2800"/>
            </a:br>
            <a:r>
              <a:rPr b="0" lang="ro-RO" sz="2800" spc="-1" strike="noStrike">
                <a:solidFill>
                  <a:srgbClr val="000000"/>
                </a:solidFill>
                <a:latin typeface="Arial"/>
              </a:rPr>
              <a:t>http://www.cev.be/28-you_want_to_volunteer-EN.htm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este voluntariatu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iatul este activitatea de interes public desfasurata din proprie initiativa de orice persoana fizica, în folosul altora, fara a primi o contraprestatie materiala; activitatea de interes public este activitatea desfasurata în domenii cum sunt: asistenta si serviciile sociale, protectia drepturilor omului, medico-sanitar, cultural, artistic, educativ, de învatamânt, stiintific, umanitar, religios, filantropic, sportiv, de protectie a mediului, social si comunitar si altele asemenea." (definitia din Legea Voluntariatului 200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toria voluntariatului</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ozofia fundamentala a secolului al III-lea este dorinta oamenilor de a-i ajuta pe semenii lor fara a pretinde foloase sau avantaje personale. </a:t>
            </a:r>
            <a:r>
              <a:rPr b="0" lang="it-IT" sz="2800" spc="-1" strike="noStrike">
                <a:solidFill>
                  <a:srgbClr val="000000"/>
                </a:solidFill>
                <a:latin typeface="Arial"/>
              </a:rPr>
              <a:t>Majoritatea oamenilor se gandesc la el ca la un fenomen modern. In Marea Britanie de pilda, unii sugereaza ca el dateaza din epoca elisabetana, sau inca si mai demult din vremea romani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uvantul caritate inseamna fie dragoste fata de semeni, fie marinimie fata de cei nevoiasi sau in suferinta. </a:t>
            </a:r>
            <a:r>
              <a:rPr b="0" lang="pt-BR" sz="2800" spc="-1" strike="noStrike">
                <a:solidFill>
                  <a:srgbClr val="000000"/>
                </a:solidFill>
                <a:latin typeface="Arial"/>
              </a:rPr>
              <a:t>Cuvantul filantropie este de origine greaca, el insemnand dragoste fata de oa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ivilizatiile egiptene timpuri au elaborate un cod moral strict bazat pe justitia sociala. Acest cod moral strict i-a incurajat pe oameni sa ajute semenii in functie de necesitatile lor, de pilda, sa transporte un om sarac cu bacul peste rau fara sa-i ceara bani. </a:t>
            </a:r>
            <a:r>
              <a:rPr b="0" lang="it-IT" sz="2800" spc="-1" strike="noStrike">
                <a:solidFill>
                  <a:srgbClr val="000000"/>
                </a:solidFill>
                <a:latin typeface="Arial"/>
              </a:rPr>
              <a:t>Chiar si faraonii au contribuit la actele de caritate, daruind saracilor adapost, hrana si imbracaminte acum 5000 de a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India antica, imparatul budist Asoka (274-232 i.Ch) a asigurat facilitate medicale, a poruncit sa se sape puturi si ca o initiative ecologica timpurie, a plantat pomi de care sa se bucure poporul. In societatea greaca din timpuri stravechi, drumetilor li se dadea hrana si adapost in casele oamenilor bogati sau ei se bucurau de ospitalitatea taran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tot mersul istoriei, caritatea a fost de asemenea strans corelata cu dezvoltarea organizatiilor religioase. Invataturile evreilor au promovat idea ca saracii au drepturi, iar bogatii – indatoriri. Bisericile crestine timpurii au infiintat fonduri de ajutorare a vaduvelor, orfanilor, bolnavilor, nevoiasilor, celor cu incapacitate de munca si detinutilor. Primele danii au fost autorizate de imparatul Constantin I in anul 331 i.Ch, ceea ce a permis sa se infiinteze donatii pentru scopuri de cari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lumea islamica, filantropia a fost folosita pentru a se infiinta numeroase spitale mari. Exemple timpurii de bani albi pentru zile negre, provin tot din lumea islamica, pacientilor sarmani li se dadeau cinci monede de aur la iesirea din 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n Roman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ceputurile voluntariatului românesc ar putea fi considerate, după unii autori, cele făcute de generalul pensionar Ştefan Stoica, originar din Banat. Acesta a înfiinţat la Bucureşti, în anul 1913, o </a:t>
            </a:r>
            <a:r>
              <a:rPr b="0" i="1" lang="ro-RO" sz="2400" spc="-1" strike="noStrike">
                <a:solidFill>
                  <a:srgbClr val="000000"/>
                </a:solidFill>
                <a:latin typeface="Arial"/>
              </a:rPr>
              <a:t>“legiune ardeleană”</a:t>
            </a:r>
            <a:r>
              <a:rPr b="0" lang="ro-RO" sz="2400" spc="-1" strike="noStrike">
                <a:solidFill>
                  <a:srgbClr val="000000"/>
                </a:solidFill>
                <a:latin typeface="Arial"/>
              </a:rPr>
              <a:t>, cu scopul de a face propagandă şi a lupta pentru cucerirea Banatului şi a Transilvaniei. Generalul a echipat voluntarii cu armament cumpărat din bani donaţi, iar în anul 1915 face cu aceştia şi exerciţii militare. Voluntarii urmau să fie distribuiţi la regimentele româneşti ca şi călăuze, în caz de conflict între România şi Imperiul Austro-ung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lte încercări de constituire a unei “legiuni ardelene” au făcut Octavian Goga şi profesorul Simion Mandrescu în anul 1915, aceştia întemeind o organizaţie ce va cuprinde în foarte scurt timp cca 3.000 membri (în octombrie 1915). Aceştia beneficiau şi de un organ de presă propriu, intitulat “Ardeal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e este voluntaru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se refera si actioneaza de buna voie, din proprie initiativa, in mod constient sa faca un serviciu – „Dictionarul explicativ al Limbii Rom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isi ofera cu buna vointa timpul sa ajute o organizatia la indeplinirea misiunii sale fara a fi platit – Fundatia Serviciilor Sociale Beth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crede cu adevarat in oameni si in puterea lor de a schimba lucrurile in bine –si este gata sa dovedeasca acest lucru –„Opportunity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ne poate fi voluntar</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mplu: oricine! Oricine poate sa devina voluntar si sa aduca o contributie, cat de mica, la lumea care ne inconjoara. Important este doar sa iti doresti acest luc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 totii avem cel putin un lucru la care ne pricepem suficient de bine; asadar, cu totii avem cel putin o abilitate, pricepere sau un talent pe care sa il putem pune in folosul unei persoane care are nevoie de ajutor, in folosul strazii, al cartierului sau orasului in care traim sau in folosul comunitatii in gener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otul este sa ne dorim acest lucru si sa gasim acea organizatie care sa ne ofere oportunitatea potrivita de a face acest lucru. Pentru o comunitate mai buna, pentru a fi mai fericiti si mai implini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XP</cp:lastModifiedBy>
  <dcterms:modified xsi:type="dcterms:W3CDTF">2010-05-08T07:14:35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